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825-7E9A-412A-BB1C-C34198DC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FF5-3C13-413D-8148-67601E2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5C6-FFD3-4BC5-A956-3D921D4D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B76-8B03-4212-8179-9F014C68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DB7-2E61-4FE5-A6AE-491C2746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542-47D0-4DA4-A00E-E7D7A59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334-21C0-40F2-8F62-07803F93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169-5911-4951-9382-E693053B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313-01E2-4C1A-812E-0484462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118-0E02-4C95-867F-2E7104D6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843-49FB-4502-8DE2-63F1263A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B77-7016-4BAA-8A6B-B32E76B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153-16C0-40F1-9874-E879C85D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背景4"/>
          <p:cNvPicPr/>
          <p:nvPr/>
        </p:nvPicPr>
        <p:blipFill>
          <a:blip r:embed="rId2"/>
          <a:stretch/>
        </p:blipFill>
        <p:spPr>
          <a:xfrm>
            <a:off x="685800" y="1447920"/>
            <a:ext cx="7696080" cy="3962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914400" y="25146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esson 14  Snow! It’s Winter!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89040" y="411120"/>
            <a:ext cx="34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762120" y="2743200"/>
            <a:ext cx="7772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No, they are going out to play with Danny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685800" y="495288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Jenny puts on her coat. 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457200" y="1828800"/>
            <a:ext cx="815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re Jenny and Li Ming going out to play with Kim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380880" y="4038480"/>
            <a:ext cx="815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What do Jenny and Li Ming put on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685800" y="586728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i Ming puts on his scarf and winter hat. 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4" descr="背景9"/>
          <p:cNvPicPr/>
          <p:nvPr/>
        </p:nvPicPr>
        <p:blipFill>
          <a:blip r:embed="rId1"/>
          <a:srcRect l="0" t="0" r="20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457200" y="914400"/>
          <a:ext cx="8381880" cy="494676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2057400"/>
                <a:gridCol w="1676520"/>
                <a:gridCol w="1676160"/>
              </a:tblGrid>
              <a:tr h="22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can you see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are you going to do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cold and         snow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ut on my winter jacke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n see the ice and the sno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going to play with my frie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09480" y="8380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work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838080" y="2895480"/>
            <a:ext cx="7467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ease write down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mething about winter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冬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3"/>
          <p:cNvGrpSpPr/>
          <p:nvPr/>
        </p:nvGrpSpPr>
        <p:grpSpPr>
          <a:xfrm>
            <a:off x="76320" y="0"/>
            <a:ext cx="4876200" cy="6858000"/>
            <a:chOff x="76320" y="0"/>
            <a:chExt cx="4876200" cy="6858000"/>
          </a:xfrm>
        </p:grpSpPr>
        <p:pic>
          <p:nvPicPr>
            <p:cNvPr id="46" name="Picture 20" descr="背景1"/>
            <p:cNvPicPr/>
            <p:nvPr/>
          </p:nvPicPr>
          <p:blipFill>
            <a:blip r:embed="rId1"/>
            <a:srcRect l="0" t="0" r="3031" b="0"/>
            <a:stretch/>
          </p:blipFill>
          <p:spPr>
            <a:xfrm>
              <a:off x="76320" y="0"/>
              <a:ext cx="4571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22"/>
            <p:cNvSpPr/>
            <p:nvPr/>
          </p:nvSpPr>
          <p:spPr>
            <a:xfrm>
              <a:off x="2971440" y="4952880"/>
              <a:ext cx="19810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25" descr="背景1"/>
          <p:cNvPicPr/>
          <p:nvPr/>
        </p:nvPicPr>
        <p:blipFill>
          <a:blip r:embed="rId2"/>
          <a:srcRect l="1619" t="0" r="3031" b="82227"/>
          <a:stretch/>
        </p:blipFill>
        <p:spPr>
          <a:xfrm>
            <a:off x="4572000" y="0"/>
            <a:ext cx="45720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905120" y="2362320"/>
          <a:ext cx="7086600" cy="3149640"/>
        </p:xfrm>
        <a:graphic>
          <a:graphicData uri="http://schemas.openxmlformats.org/drawingml/2006/table">
            <a:tbl>
              <a:tblPr/>
              <a:tblGrid>
                <a:gridCol w="3276720"/>
                <a:gridCol w="38098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WordArt 38"/>
          <p:cNvSpPr txBox="1"/>
          <p:nvPr/>
        </p:nvSpPr>
        <p:spPr>
          <a:xfrm>
            <a:off x="5486400" y="4191120"/>
            <a:ext cx="341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t’s cold and snowy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堆雪人"/>
          <p:cNvPicPr/>
          <p:nvPr/>
        </p:nvPicPr>
        <p:blipFill>
          <a:blip r:embed="rId1"/>
          <a:srcRect l="5732" t="16496" r="10003" b="5572"/>
          <a:stretch/>
        </p:blipFill>
        <p:spPr>
          <a:xfrm>
            <a:off x="6010200" y="3429000"/>
            <a:ext cx="31338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lide"/>
          <p:cNvPicPr/>
          <p:nvPr/>
        </p:nvPicPr>
        <p:blipFill>
          <a:blip r:embed="rId2"/>
          <a:srcRect l="3408" t="0" r="0" b="11029"/>
          <a:stretch/>
        </p:blipFill>
        <p:spPr>
          <a:xfrm>
            <a:off x="111240" y="0"/>
            <a:ext cx="3165480" cy="334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打雪仗1"/>
          <p:cNvPicPr/>
          <p:nvPr/>
        </p:nvPicPr>
        <p:blipFill>
          <a:blip r:embed="rId3"/>
          <a:srcRect l="11410" t="7616" r="11372" b="9359"/>
          <a:stretch/>
        </p:blipFill>
        <p:spPr>
          <a:xfrm>
            <a:off x="6010200" y="0"/>
            <a:ext cx="3133800" cy="33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冬泳"/>
          <p:cNvPicPr/>
          <p:nvPr/>
        </p:nvPicPr>
        <p:blipFill>
          <a:blip r:embed="rId4"/>
          <a:srcRect l="1625" t="0" r="0" b="1743"/>
          <a:stretch/>
        </p:blipFill>
        <p:spPr>
          <a:xfrm>
            <a:off x="54000" y="3429000"/>
            <a:ext cx="3222720" cy="336852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76320" y="22860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lide 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019920" y="3808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row snowball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 school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76320" y="358128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wim in a rive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6172200" y="342900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ke a snowma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13" descr="stay at home"/>
          <p:cNvPicPr/>
          <p:nvPr/>
        </p:nvPicPr>
        <p:blipFill>
          <a:blip r:embed="rId5"/>
          <a:srcRect l="556" t="0" r="0" b="2443"/>
          <a:stretch/>
        </p:blipFill>
        <p:spPr>
          <a:xfrm>
            <a:off x="3292560" y="0"/>
            <a:ext cx="2727360" cy="334656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3505320" y="304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ay at home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61" name="Picture 15" descr="冬季长跑"/>
          <p:cNvPicPr/>
          <p:nvPr/>
        </p:nvPicPr>
        <p:blipFill>
          <a:blip r:embed="rId6"/>
          <a:srcRect l="34048" t="11332" r="1682" b="4365"/>
          <a:stretch/>
        </p:blipFill>
        <p:spPr>
          <a:xfrm>
            <a:off x="3276720" y="3429000"/>
            <a:ext cx="2673360" cy="3260880"/>
          </a:xfrm>
          <a:prstGeom prst="rect">
            <a:avLst/>
          </a:prstGeom>
          <a:ln w="0">
            <a:noFill/>
          </a:ln>
        </p:spPr>
      </p:pic>
      <p:sp>
        <p:nvSpPr>
          <p:cNvPr id="62" name="WordArt 16"/>
          <p:cNvSpPr txBox="1"/>
          <p:nvPr/>
        </p:nvSpPr>
        <p:spPr>
          <a:xfrm>
            <a:off x="3429000" y="3581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n on the snow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1219320" y="5686560"/>
            <a:ext cx="6933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I'm going to  _____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Picture 3" descr="背景1"/>
            <p:cNvPicPr/>
            <p:nvPr/>
          </p:nvPicPr>
          <p:blipFill>
            <a:blip r:embed="rId1"/>
            <a:srcRect l="0" t="0" r="3031" b="0"/>
            <a:stretch/>
          </p:blipFill>
          <p:spPr>
            <a:xfrm>
              <a:off x="0" y="0"/>
              <a:ext cx="2514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1143000" y="4952880"/>
              <a:ext cx="19810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背景1"/>
            <p:cNvPicPr/>
            <p:nvPr/>
          </p:nvPicPr>
          <p:blipFill>
            <a:blip r:embed="rId2"/>
            <a:srcRect l="1619" t="0" r="3031" b="82227"/>
            <a:stretch/>
          </p:blipFill>
          <p:spPr>
            <a:xfrm>
              <a:off x="0" y="0"/>
              <a:ext cx="9144000" cy="1219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8" name=""/>
          <p:cNvGraphicFramePr/>
          <p:nvPr/>
        </p:nvGraphicFramePr>
        <p:xfrm>
          <a:off x="914400" y="2184480"/>
          <a:ext cx="8077320" cy="3149640"/>
        </p:xfrm>
        <a:graphic>
          <a:graphicData uri="http://schemas.openxmlformats.org/drawingml/2006/table">
            <a:tbl>
              <a:tblPr/>
              <a:tblGrid>
                <a:gridCol w="1584360"/>
                <a:gridCol w="1616040"/>
                <a:gridCol w="487692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hat are you going to do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co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snow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WordArt 47"/>
          <p:cNvSpPr txBox="1"/>
          <p:nvPr/>
        </p:nvSpPr>
        <p:spPr>
          <a:xfrm>
            <a:off x="4495680" y="3857760"/>
            <a:ext cx="4038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'm going to play with my friend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49"/>
          <p:cNvSpPr txBox="1"/>
          <p:nvPr/>
        </p:nvSpPr>
        <p:spPr>
          <a:xfrm>
            <a:off x="4495680" y="4619520"/>
            <a:ext cx="2210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'm going to..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4"/>
          <p:cNvGrpSpPr/>
          <p:nvPr/>
        </p:nvGrpSpPr>
        <p:grpSpPr>
          <a:xfrm>
            <a:off x="914400" y="341280"/>
            <a:ext cx="7238880" cy="5983200"/>
            <a:chOff x="914400" y="341280"/>
            <a:chExt cx="7238880" cy="5983200"/>
          </a:xfrm>
        </p:grpSpPr>
        <p:pic>
          <p:nvPicPr>
            <p:cNvPr id="72" name="Picture 12" descr=""/>
            <p:cNvPicPr/>
            <p:nvPr/>
          </p:nvPicPr>
          <p:blipFill>
            <a:blip r:embed="rId1"/>
            <a:srcRect l="5882" t="9411" r="62094" b="48238"/>
            <a:stretch/>
          </p:blipFill>
          <p:spPr>
            <a:xfrm>
              <a:off x="914400" y="341280"/>
              <a:ext cx="7238880" cy="598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3" descr=""/>
            <p:cNvPicPr/>
            <p:nvPr/>
          </p:nvPicPr>
          <p:blipFill>
            <a:blip r:embed="rId2"/>
            <a:srcRect l="6190" t="18051" r="78096" b="66289"/>
            <a:stretch/>
          </p:blipFill>
          <p:spPr>
            <a:xfrm>
              <a:off x="1028880" y="1523880"/>
              <a:ext cx="3504960" cy="225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5882" t="51244" r="62094" b="10066"/>
          <a:stretch/>
        </p:blipFill>
        <p:spPr>
          <a:xfrm>
            <a:off x="647640" y="465120"/>
            <a:ext cx="78487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457200" y="205740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What day is today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80880" y="3124080"/>
            <a:ext cx="815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How’s the weather this morning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380880" y="4191120"/>
            <a:ext cx="815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Are Jenny and Li Ming going out to play with Kim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80880" y="5372280"/>
            <a:ext cx="815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What do Jenny and Li Ming put on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6858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s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838080" y="3124080"/>
            <a:ext cx="5105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It's Saturday, December 9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838080" y="5486400"/>
            <a:ext cx="51055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It's cold and snowy.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457200" y="205740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What day is today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457200" y="4457880"/>
            <a:ext cx="815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How’s the weather this morning?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09:14:04Z</dcterms:created>
  <dc:creator/>
  <dc:description/>
  <dc:language>en-US</dc:language>
  <cp:lastModifiedBy>840243721@qq.com</cp:lastModifiedBy>
  <dcterms:modified xsi:type="dcterms:W3CDTF">2015-12-11T06:31:29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